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84B-8B58-4862-BE29-8A1FC787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3AC-D38C-45BC-AE65-6F33B27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A9BB32-406A-4DD0-A56D-3C6D458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4F4E2-E9CA-4EE9-8418-9D6A876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C48679-8914-4C0C-B813-11A6EC7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532E8-C33C-4CFF-AF0A-62F44FC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7FE7E-7AC1-4553-8BAF-DAC00F6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DBEF9-EBD5-4674-AF3A-BD30919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36EDD-7F66-4473-B42A-D3BC90F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E1E99-06F1-4152-9CCB-8A842B88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D1C86-3ED5-4707-AF28-0E7672FC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AB76E-D995-4108-8E0F-1F758266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9E9-E31F-4192-B6B2-D940F58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BF3E8-1420-48A1-8769-6DA5DEE6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81BCC-7DD0-45C3-9660-8D3ED65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F5035-D589-47BE-833D-079A2739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32C5F-E0EB-499B-981A-91C01C54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5DE7C-B3BB-4BE8-AD99-4B19EC92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C7ED-7E94-4DFF-A258-63FB4B8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8393B-3C24-445C-969C-C26D952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17484-D25B-451E-BEB3-81C8586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DDD8E-B77A-4F6D-8B26-0DC7646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8B45-1C47-453C-BB57-D3E9481E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551-233A-481E-962B-A1AE0363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1603-3FEC-410F-836B-33D013B8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EF569-6C16-4A0A-990E-F7564EC0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A255E-1242-4AA8-8407-EF56B819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BAD1F-07B5-4E53-8A99-72AD921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5950-EC09-486B-9DE7-BFF49F0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16BA-3592-41D8-9729-F0939437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A85A-5BCA-42B6-9072-558D7FD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3E0E9-99F1-4FFB-A65D-B4D11CE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072F6-0230-4BF8-B372-0B5477E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14154-650C-4ED4-B56F-E619FB36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1E05-EC8A-4C51-B70A-F57D86D7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F01AE-6472-475C-89E3-6FF8CC91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3A122-3C65-4C36-8298-A7841DA6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89DFA-CB8C-4941-8880-C495CE49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8A1-0384-4A44-956F-BBF2BB94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6888-6A4A-4424-92E4-A6EC7AD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071A-0133-407F-9C5E-36DC4DB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857-6458-4148-B208-6296616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D87-A226-4248-930F-3F354B1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E586-6899-48DA-9E6D-EF4F17B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16A-D69C-4311-83D3-6E849AD9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1F0A-2497-4459-98D1-BE024FD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63D4-DB14-4175-AB3F-4E55907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0A2A-99FB-4D85-B2DA-FD4CC77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3DAE-B67C-4C27-89BA-16430900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E82-EC32-4D79-A207-C9D9F54B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8C41-69D4-48EC-BEDA-7C0271DC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AF4F-F705-4DCD-8DB2-1401C62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4925-6350-45EE-B7F2-1588C18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3874-CBA9-490F-A8A9-CD861E97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1793-3EA9-4A2E-B767-2B248F6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DF0-B604-4A31-AE34-AC0C8F1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A94D-90CA-43E7-A99B-E10D5A3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BECB-22EA-40D4-982C-E21C96A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B23D-F157-46B1-B226-E551AA66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7626-1259-4625-AF35-61DA3B7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B82F-018F-4838-8874-FCE1DF2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AD54-BA20-492A-9FB0-43C7BA20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F24A-952D-4CFD-B394-554AE51F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26F8-4BB2-4032-B407-D3409951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A1BEF-8C2B-44C4-BBE4-588FFFB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3A9F-299E-4875-A63D-3296521F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D7B-46CC-4E2F-85AD-E5A5935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4E79-1B0A-438D-970E-CF66B75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1BED-1924-41C8-B4D1-338B2F0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111A-6B8E-4AA7-B669-0FB0009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AF900-81E2-4A21-9B45-D01233B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D9D94-EB4F-4954-9AAC-BF13D57F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1444-08D4-4EE4-BAFF-4B04F18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8199-4462-472B-8E78-5843FFF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5103-1B2C-45F6-BFD8-F38B8958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6021-ECCC-4F22-A364-F28B4DC9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B89B-CCF8-4B89-8BB9-BDFA00BE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66F-5892-4C93-BFD0-68DA07ED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3B90-1AB1-4171-AB8E-EA3A5235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0CA9-F4EE-4CFB-AD13-A53B8097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B659-16D8-436E-BB03-7369E45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BEC3-3A9C-49A6-8306-2C3B4A8B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7CCC-4891-43C1-A390-6C482F32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AA13-1BFF-434D-AD78-7D4C304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ADDBE-B49C-489A-B36A-8FDD39C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32452-16A0-403F-A445-4ADCA4A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501A0-AE8F-47B0-9AA6-2B99CE7C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DA8EC-35D7-4F02-BDDB-04EA4989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841-7911-4EA6-9080-D26377CC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5CE8-8D9E-4B62-A7DA-6CA18D2F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85995-F37E-414C-B57A-BF66B50C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D700-89C5-4641-A3CE-453D63F6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786F-4FD8-40B8-966C-ABACDFDD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C6E9-3D1D-4538-BFB8-4E0DCF45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E6932-5D8D-4967-85EA-5D2C1F8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834B-25EC-4674-BBF3-A5FC059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9C67-AA50-4870-ACE8-AFC2DD0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5750-E76A-4BEA-BFF8-B3E4833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8FC3-C79B-462F-BE6A-04BCB9A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675-F73C-49AD-A178-D55F4DD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2E29-4AA0-4096-9B76-C2C7F44C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B1B4-327E-4B15-9CFB-0A783675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A83F-6F8D-42AA-B0CA-206C6ADA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3C21A-5CC9-488B-8D79-B1127142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C9C77-6477-45BC-8901-FBC33A24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9D808-3BED-498E-8D70-A646CA9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106E6-B7EF-499E-A4BB-9C9A6863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8E63B-ED27-4990-A545-2207106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E6768-A071-4940-B58C-56059C3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AE315-DB28-4812-86D9-28A1987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66C-44E8-4B69-BA0F-348B17E2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45825-CC9F-4541-A384-C6C7C7C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49395-A946-4445-8723-95E056B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FCE62-09BB-48EB-B0CF-8CB87AD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EDC4B-1A4E-4927-A6F9-93B5C881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5FABD-E14F-474A-9381-6AD018A2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F447-18D9-40A4-AD9E-1F9F8312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D54C-16AA-464C-955E-00E88ED2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0A1EE-4E45-417A-B4CF-79C914EA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B60F7-DE91-43F6-9F03-BA7C70E8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EFD59-867B-4C18-B818-89BF7B4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B20-1218-4804-9A7A-BBA830A0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9F27-5798-4CCF-B1E3-A80340A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34B7-1BC0-4967-9D30-DC619DA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0438C-1FDE-4E95-A780-29A340B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6DF2-DB1F-455A-BB32-F48792F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D27A-1A56-48B4-BD9C-8EA8A47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9C4B3-AACA-413B-AAA7-5CEB5923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A903-1DED-4F8C-9213-CFDA94D4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795A4B-CCBE-4B87-B954-BD3CF977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4148A-4669-4297-B563-075B4D12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0C2706-C80D-41B0-9949-545B31E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68B1-CD20-4F08-8C72-D95373426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463-B760-4F5E-B73B-1025ED843E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7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AD84-7089-4DF9-BAA7-C020711E68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79E3-58DA-4ACC-90AA-B472C71D27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C70-22E1-4081-9ECF-6BA2FEBE108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9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7E58-ACAB-4510-8C46-3B3F9BB4B7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4F2-251F-4F57-89F8-A455E6F812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F26-3697-4E13-8987-2FCEAA41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7BB-4CDE-45B4-B7F0-0C14BBF0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1EAB-950A-4CAD-9209-2B1A5512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7A2-E6CA-4261-B638-D9C2DC84F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04920" y="304920"/>
            <a:ext cx="8458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mbio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cosistemas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548640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cho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tor Lomb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beca Sán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El depredador y su 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205740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invierno, un grupo de alces logró llegar a la isla a través de las aguas heladas y se instaló en ella; allí creció en ausencia de depred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abunda la presa, hay poca resistencia ambiental para el depredador y su número aumenta. La consecuencia es la disminución de la `presa, que a su vez hace aumentar la resistencia ambiental para el depred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828800" y="5335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La 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1905120"/>
            <a:ext cx="83822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tilizaron dos especies de paramecios. Se prepararon dos tipos de cultivos, uno con las dos especies por separado y otro con las dos j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aso: las dos especies progresaron hasta alcanzar el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segundo caso, solo una de las especies logró sobrevivir mientras la otra acabó por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que dos especies que usan de la misma manera recursos idénticos no pueden coexistir en el mismo medio. La mejor adaptada elimina a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80880" y="457200"/>
            <a:ext cx="861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uando el equilibrio se rompe: LAS PLA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11430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2514600"/>
            <a:ext cx="7772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laga es cualquier organismo no deseado que interfiere, de manera directa o indirecta, con las actividades hu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oblaciones de plagas están controladas por la falta de recursos y por sus competidores y depredadores naturales Pero este equilibrio se rompe cuando la plaga se encuentra con una cantidad prácticamente ilimitada y una ausencia de enem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143000" y="228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Plagui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20" y="1219320"/>
            <a:ext cx="80769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étodo más utilizado ha sido el uso de plaguicidas. Un plaguicida es una sustancia química capaz de matar organismos considerados como indeseables: Insecticida, herbicid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laguicida ideal debería exterminar solo a la plaga objeto y no tener efectos nocivos sobre los seres vivos que nos son problema, incluyendo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038840" cy="26874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4381560" y="3505320"/>
            <a:ext cx="4228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457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El control integral de las pla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2362320"/>
            <a:ext cx="7924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objetivo no está en erradicar, sino en mantener la población de plagas por debajo del tamaño en el que causan pérdidas 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ando se detecta la aparición inicial de la `plaga se utilizan controles biológicos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Introducir depredadores naturales, parásitos y patógenos para regular la población de la pl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Esterilizar insectos machos de la plaga y liberarlos para que compiten con los machos fér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· montar trampas con sustancias atrayentes como feromonas. Las trampas se utilizan para atraer a los depredadores naturales o a la propia pl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rcRect l="0" t="0" r="0" b="6776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80880" y="380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Los ecosistemas cambian. Cambios periód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2209680"/>
            <a:ext cx="7162920" cy="4114800"/>
          </a:xfrm>
          <a:prstGeom prst="rect">
            <a:avLst/>
          </a:prstGeom>
          <a:solidFill>
            <a:srgbClr val="ffffff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2201760"/>
            <a:ext cx="69343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riodicidad conjunta de los movimientos del sol, Tierra y Luna son el origen de cambos ambientales que se repiten de forma cíclica sobre la superficie terrestre. Los cambios estacionales, la sucesión del día y la noche o los cambios producidos pos la alternancia de las m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oblaciones y los ecosistemas ambientales experimentan variaciones periódicas en respuesta a estos cambios ambientales. El número de individuos cambia y cambia su actividad y su distrib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066680" y="3049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14479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diarios. Los organismos se ajustan a estos cambios alternando los período de reposo y actividad, dependiendo de la hora del día. Hay organismos diurnos, nocturnos, vespertinos o matut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estacionales. Una gran variedad de comportamientos está asociada a los cambios estacionales. En las plantas, la caída de la hoja y en los animales, los períodos de reproduc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 Ritmos de mareas. Los cambios en el nivel del mar afectan de forma periódica a los organismos que viven en las c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mbios tras un incen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plantas son pirófitos, es decir, que logran regenerarse con facilidad tras un incen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35812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en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3886200" y="20574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 el incendio, solo algunos elementos subterráneos sobreviven. El resto desaparece y el humus es destr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57200" y="46483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 el suelo no ha sido destruido completamente, se inicia el proceso de regeneración. Durante los primeros años se forma un pastizal formado por plantas herbác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91440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ambios en las 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22096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poblaciones poseen una serie de características propias de las que carecen los individuos aislados, como el tamaño, número de individuo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5105520"/>
            <a:ext cx="25909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4267080"/>
            <a:ext cx="2133720" cy="8384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3200400"/>
            <a:ext cx="609480" cy="1066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4800600"/>
            <a:ext cx="18288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9880" y="3962520"/>
            <a:ext cx="2286000" cy="838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200400"/>
            <a:ext cx="167652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67480" y="4724280"/>
            <a:ext cx="4572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0" y="3962520"/>
            <a:ext cx="16002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200400"/>
            <a:ext cx="190476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6668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81680" y="5715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reg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743200" cy="1827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733920" y="6094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urante los siguientes años predominan los arbustos bajos. Los troncos quemados se descomponen y las poblaciones animales aumen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1066680" y="2514600"/>
            <a:ext cx="2819520" cy="1889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267080" y="2895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espués en los siguientes 30 o 35 años se conseguirá una maquia arbolada y con una gran protección se logrará la presencia de mamíferos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2857320" cy="19144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429000" y="51814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a llegar a la formación total tendrán que pasar 50 o 60 años más, y para poder ver una comunidad, otros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cesión eco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¿Por qué se produ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causas naturales o influidas por humanos que despejan un espacio de las comunidades     biológicas o las altera grav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be el nombre de ecosistema clímax cuando ha alcanazo el máximo de relaciones tróficas y está en la cima de su equilib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uces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ecosistemas, sucesión primaria "/>
          <p:cNvPicPr/>
          <p:nvPr/>
        </p:nvPicPr>
        <p:blipFill>
          <a:blip r:embed="rId1"/>
          <a:stretch/>
        </p:blipFill>
        <p:spPr>
          <a:xfrm>
            <a:off x="380880" y="1371600"/>
            <a:ext cx="3581640" cy="26798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57200" y="43434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inicia de cero; es decir, si no ha estado colonizada por organismos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95680" y="3049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ucesión Secu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105000" cy="38098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87692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ecido en una zona en la que anteriormente existía una comunidad, pero que ha sido elim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 ecosistema se caracteriza p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01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tar integrado por un conjunto de elementos o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s interacciones que se producen entre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s interacciones que proporcionan una entidad a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886200" y="4419720"/>
            <a:ext cx="4191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een propiedades especí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cambia materia y energía entre sus propios componentes y con el ex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automantiene como estructura y se modifica con el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do de equilibrio diná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do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ria inorgá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ragmentos de rocas, minerales, aire y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eria orgáni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tud de organismos, restos de ellos y hu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3124080" y="4191120"/>
            <a:ext cx="3810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ción de un su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527640" cy="3753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380880" y="1600200"/>
            <a:ext cx="4343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-Roca mad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os cambios de temperatura, el agua y el aire fragmentan las rocas y las degra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-Suelo jov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a acción del agua, el aire y los seres vivos como líquenes o microorganismos permiten la form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-Suelo madur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iles de años después, el suelo evoluciona y se enriquece en materia orgá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s suelos evolucio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 forman y destruyen, y su destrucción se lleva a cabo por procesos ero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 predominan los procesos formadores, el suelo incrementa su espesor y complej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 predominan los procesos erosivos, el suelo va perdiendo espe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62120" y="1828800"/>
            <a:ext cx="7543800" cy="1066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9480" y="3581280"/>
            <a:ext cx="7543800" cy="1067040"/>
          </a:xfrm>
          <a:prstGeom prst="rect">
            <a:avLst/>
          </a:prstGeom>
          <a:solidFill>
            <a:srgbClr val="ff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5257800"/>
            <a:ext cx="7543800" cy="1066680"/>
          </a:xfrm>
          <a:prstGeom prst="rect">
            <a:avLst/>
          </a:prstGeom>
          <a:solidFill>
            <a:srgbClr val="ff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s suelos se degradan y se destruy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or actividade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ores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explotación de cul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brepasto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3048120" cy="204156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3286080" cy="22417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2590920" y="5029200"/>
            <a:ext cx="2511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914400" y="3808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ambios </a:t>
            </a: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en el tamaño</a:t>
            </a: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 de la </a:t>
            </a:r>
            <a:r>
              <a:rPr b="1" lang="en-US" sz="4400" spc="-1" strike="noStrike">
                <a:solidFill>
                  <a:srgbClr val="ffffff"/>
                </a:solidFill>
                <a:latin typeface="Broadway"/>
              </a:rPr>
              <a:t>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22096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ncipal factor que favorece el aumento de las poblaciones es el potencial bió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cto sobre el tamaño de población, las crías deben sobrevivir y reproduci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 factor que favorece en crecimiento es la capacidad de migrar o dispers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53352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Estrategias de re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447920"/>
            <a:ext cx="76201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y dos estrategias de reprodu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Tasa de natalidad elevada y alta mortalidad de las c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Tasa de natalidad pequeña y baja mortalidad de las c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4038480" cy="18576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20574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762120" y="457200"/>
            <a:ext cx="784836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recimiento exponencial y explosión pob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representar en una gráfica el número de individuos de una población en función del tiempo y en un medio con recursos ilimitados, se obtiene una curva de crecimiento en forma de J. Cuando esto ocurre se dice que hay una explosión pobl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junto de factores bióticos y abióticos que limitan el aumento de las poblaciones se denomina resistencia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Crecimiento en S de la 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2362320"/>
            <a:ext cx="75438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se representa el crecimiento de una población en función del tiempo y en un medio con recursos limitados, se obtiene una curva de crecimiento en forma de S. Este  límite se conoce con el nombre de capacidad de sos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acidad de sostenimiento (K) es la población máxima que un hábitat dado puede sostener sin degradarse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0880" y="8380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"/>
              </a:rPr>
              <a:t>Las poblaciones interact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3623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ensidad es unos de los factores que controlan el tamaño de la población. Al aumentar la densidad, también lo hace la resistencia ambiental y al contario. El tamaño de las poblaciones se mantiene dentro de unos lím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va</cp:lastModifiedBy>
  <dcterms:modified xsi:type="dcterms:W3CDTF">2012-05-30T19:04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